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D32-CC2E-4687-92EF-D83DAFC7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DCE-B00F-46AD-B4CA-86D5CB03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72C-B73A-47E3-A7AA-611EBBAB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F36-1544-4BC1-A15C-1FE5963C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C6A-16DA-498A-A0FB-3B282236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5A6-3D75-44FA-9891-D51E12EC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5C9-733B-4BC2-BE5F-C7490DA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234-6A57-400A-90F5-8925FEC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096-327E-4700-B52A-598CB749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5D1-70C8-4723-A947-77695E99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8ED-F3BD-4751-9F56-27E8C54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AF3-9162-4A93-9405-2993404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DE5-94E4-47BC-AD56-768BD5CF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185920"/>
            <a:ext cx="3200400" cy="21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35440" y="152280"/>
            <a:ext cx="302256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876920"/>
            <a:ext cx="2841480" cy="426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84680" y="4724280"/>
            <a:ext cx="307332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124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28960" y="6867360"/>
            <a:ext cx="277812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962520" y="4890960"/>
            <a:ext cx="2590560" cy="18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11160" y="6896160"/>
            <a:ext cx="1451160" cy="217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33520" y="4927680"/>
            <a:ext cx="2359080" cy="185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679920" y="380880"/>
            <a:ext cx="3178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3200400" cy="2705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6240" y="0"/>
            <a:ext cx="274176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84004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256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1-21T19:40:39Z</dcterms:modified>
  <cp:revision>9</cp:revision>
  <dc:subject/>
  <dc:title>Slide 1</dc:title>
</cp:coreProperties>
</file>